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2AEE-9114-4835-B18D-4F8AAC13F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BDF3-C7E6-4D43-A7DF-161F6CDC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E25E-B65C-4330-930B-E6ED116F2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C340-D527-4606-8935-A0571131F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5993-7050-460A-A43A-5671853C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3D1D-E639-41E2-A999-E32D1A31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608E-0B53-46BE-9D30-E2FE7E67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738C-ED70-49F1-B29C-E3735DB6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846C-6442-41C6-85CB-E2C5B123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3BDE-5411-4D1D-B75C-C5870A25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9CDE-DB35-41BD-8351-F9A15AE3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155D-3084-4781-B06B-6810BFB0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005A-3D83-48A2-ABDB-E28EC4113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letour.fr/2012/TDF/COURSE/us/grand_depart_2012.html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rand Start 20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7614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letour.fr/2012/TDF/COURSE/us/grand_depart_2012.htm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First stage"/>
          <p:cNvPicPr/>
          <p:nvPr/>
        </p:nvPicPr>
        <p:blipFill>
          <a:blip r:embed="rId2"/>
          <a:stretch/>
        </p:blipFill>
        <p:spPr>
          <a:xfrm>
            <a:off x="1752480" y="1523880"/>
            <a:ext cx="609624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03 Geo Lefevre conceived the idea to race them nearly 2,500 kilometers around Fr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ournalist with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’Aut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agazine at the time he came up with his insane ide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ly 1, 1903, 60 cycling pioneers set out on their bicycles from Montger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tackling six long stages (the Nantes to Paris stage was 471 km!), only 21 “routiers,” led by Maurice Garin, arrived at the 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ce its inception, the Tour has been run every year except war years, with 2010 marking the 97th r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7400" y="2651040"/>
            <a:ext cx="5410080" cy="4206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31240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istoi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ndant la Guer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562720" y="609120"/>
            <a:ext cx="3581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ngest interruption was from 1940 to 1946, during World War I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this time, the German Propaganda Staff wanted the Tour to be run in an attempt to maintain a sense of normalcy, but then-organizer Jacques Goddet (Desgrange’s deputy and successor) refu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944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’Au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s closed and its belongings, including the Tour, were seized by the state for publishing articles too close to the Germ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went several changes in sponsorshi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med again in 19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533412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es Années Tô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early years of the Tour, racers were either individuals or teams aligned with a corporate spon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rampant corruption, in 1930 the race organizers decided that all teams had to be representatives of their country or reg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 through 196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95680" y="152388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Conséquenc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xed allegiances to the national team and the corporate te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62, the Tour returned to corporate teams, a situation that has continued, with the exception of a brief “experimental” try at national teams again in 1967 and 1968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343400" y="304920"/>
            <a:ext cx="46260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90960" y="-36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av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05520" y="990360"/>
            <a:ext cx="40384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30, as a means of advertisement, Desgrange decided to permit advertisers precede cyclists along the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me a procession of colorfully decorated cars, trucks and floa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d race organizers for the right to be in the caravan, and appealed to the crowds by giving out commercial samples and gif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34120" cy="3375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905120" y="3429000"/>
            <a:ext cx="3403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644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ur de France 20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from Saturday June 30th to Sunday July 22th 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th Tour de France will be made up of 1 prologue and 20 sta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a total distance of 3,479 kilomet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2012 Tour de France will set off from the Parc d’Avroy, in the heart of Liè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710240" y="2400480"/>
            <a:ext cx="391464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inctive Aspects of the 2010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flat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edium mountain stages - one with a summit fi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ountain stages - two with a summit fi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individual time-trial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pro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rest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417204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02:27:39Z</dcterms:created>
  <dc:creator>asmith</dc:creator>
  <dc:description/>
  <dc:language>en-US</dc:language>
  <cp:lastModifiedBy>asmith</cp:lastModifiedBy>
  <dcterms:modified xsi:type="dcterms:W3CDTF">2011-10-26T15:01:48Z</dcterms:modified>
  <cp:revision>5</cp:revision>
  <dc:subject/>
  <dc:title>Slide 1</dc:title>
</cp:coreProperties>
</file>